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gif" ContentType="image/gif"/>
  <Override PartName="/ppt/media/image5.gif" ContentType="image/gif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43E4-15E7-4F46-B8C8-522E9AF0C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6F74-1066-41FC-A8BA-456EE0D3B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5817-BF40-4A58-B615-E05226576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8A6B-E8BE-4090-9C3B-761BB0518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9905-DCF8-4CD8-B63D-3DE598205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2F6F-0C81-49D4-851F-E796A8C77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2139-6D2B-40AF-8C60-501ADBFE4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0F7D-499A-4A8E-BC89-414C1A964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02CD-8A35-4EC7-AD2A-4DC65C8AE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BD20-776D-4F1B-9C56-966DEBF53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8BFC-BF15-4260-A5FB-4DAAAFEC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D807-291F-42B6-9C7D-926683E0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CED64-F494-4750-92F0-5AD985BBB3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13.xml"/><Relationship Id="rId4" Type="http://schemas.openxmlformats.org/officeDocument/2006/relationships/slide" Target="slide18.xml"/><Relationship Id="rId5" Type="http://schemas.openxmlformats.org/officeDocument/2006/relationships/slide" Target="slide23.xml"/><Relationship Id="rId6" Type="http://schemas.openxmlformats.org/officeDocument/2006/relationships/slide" Target="slide4.xml"/><Relationship Id="rId7" Type="http://schemas.openxmlformats.org/officeDocument/2006/relationships/slide" Target="slide9.xml"/><Relationship Id="rId8" Type="http://schemas.openxmlformats.org/officeDocument/2006/relationships/slide" Target="slide14.xml"/><Relationship Id="rId9" Type="http://schemas.openxmlformats.org/officeDocument/2006/relationships/slide" Target="slide19.xml"/><Relationship Id="rId10" Type="http://schemas.openxmlformats.org/officeDocument/2006/relationships/slide" Target="slide24.xml"/><Relationship Id="rId11" Type="http://schemas.openxmlformats.org/officeDocument/2006/relationships/slide" Target="slide5.xml"/><Relationship Id="rId12" Type="http://schemas.openxmlformats.org/officeDocument/2006/relationships/slide" Target="slide10.xml"/><Relationship Id="rId13" Type="http://schemas.openxmlformats.org/officeDocument/2006/relationships/slide" Target="slide27.xml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Molecule Transpor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4114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Times New Roman"/>
              </a:rPr>
              <a:t>JEOPARDY #1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em1" descr=""/>
          <p:cNvPicPr/>
          <p:nvPr/>
        </p:nvPicPr>
        <p:blipFill>
          <a:blip r:embed="rId1"/>
          <a:stretch/>
        </p:blipFill>
        <p:spPr>
          <a:xfrm>
            <a:off x="2895480" y="1752480"/>
            <a:ext cx="312444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Active Transport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51055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: What are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Vesicl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2590920"/>
            <a:ext cx="8839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 endocytosis and exocytosis,  substances are carried in small membrane bound sacs called 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Active Transport 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51055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TP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2590920"/>
            <a:ext cx="861048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olecule that provides the energy for the Na</a:t>
            </a:r>
            <a:r>
              <a:rPr b="0" lang="en-US" sz="41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K</a:t>
            </a:r>
            <a:r>
              <a:rPr b="0" lang="en-US" sz="41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pump to wor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Active Transport 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2120" y="51055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Endocytosis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2590920"/>
            <a:ext cx="80773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inocytosis is a kind of 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xocytosis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ndocyto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Iso, Hypo, or Hyper-tonic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" action="ppaction://hlinkshowjump?jump=previousslide"/>
          </p:cNvPr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5105520"/>
            <a:ext cx="75438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HYPERTONIC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br>
              <a:rPr sz="36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ncentration outside is greater than inside cel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657600" y="2133720"/>
            <a:ext cx="4186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an example of a(n) ______________ solu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hyper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23857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Iso, Hypo, or Hyper-tonic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51055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Hypotonic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2590920"/>
            <a:ext cx="7620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f placed in a ___________ solution,  water will enter an animal cell and it will get lar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Iso, Hypo, or Hyper-tonic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120" y="51055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lasmolysi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2209680"/>
            <a:ext cx="7620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f placed in a hypertonic solution plant cells will lose water and pull away from their cell wall. This is called ________________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Iso, Hypo, or Hyper-tonic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51055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water will enter &amp; it will get bigge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267080" y="2590920"/>
            <a:ext cx="4191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do you think will happen to this animal cel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hypo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29732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Iso, Hypo, or Hyper-tonic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2120" y="51055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: What is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OSMOTIC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2057400"/>
            <a:ext cx="8839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pressure exerted by water moving during osmosis is called _____________ pressu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ransport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previousslide"/>
          </p:cNvPr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54100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ssiv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2280" y="2057400"/>
            <a:ext cx="899172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Facilitated diffusion is a kind of ____________ transpor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ctive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assi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ransport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3341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: What is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decreas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505320" y="2286000"/>
            <a:ext cx="58672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is cell will ___________  in size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rease   decrea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25956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ssiv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288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576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4864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152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1523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657600" y="1523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86400" y="1523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315200" y="1523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590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2590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57600" y="2590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86400" y="2590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315200" y="2590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657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28800" y="3657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57600" y="3657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486400" y="3657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657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4724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28800" y="4724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57600" y="4724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86400" y="4724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315200" y="4724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57913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28800" y="57913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657600" y="57913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57913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15200" y="57913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8288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v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o, hypo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 hyper-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864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por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3152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l Lif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295280"/>
            <a:ext cx="91440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15192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15192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57600" y="15192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486400" y="15192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4" action="ppaction://hlinksldjump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315200" y="15192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5" action="ppaction://hlinksldjump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2585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6" action="ppaction://hlinksldjump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2585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7" action="ppaction://hlinksldjump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657600" y="2585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8" action="ppaction://hlinksldjump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86400" y="2585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15200" y="2585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3652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28800" y="3652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2" action="ppaction://hlinksldjump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57600" y="3652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3652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315200" y="3652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4719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28800" y="4719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4719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86400" y="4719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315200" y="4719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5786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5786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5786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86400" y="5786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13" action="ppaction://hlinksldjump"/>
          </p:cNvPr>
          <p:cNvSpPr/>
          <p:nvPr/>
        </p:nvSpPr>
        <p:spPr>
          <a:xfrm>
            <a:off x="7315200" y="5786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ransport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90720" y="52578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endocytosi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48320" y="1828800"/>
            <a:ext cx="38862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kind of transport where substances are taken into the cell by vesicles is called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_______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37944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ransport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54864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lucos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581280" y="2209680"/>
            <a:ext cx="5562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n example of a molecule that uses this kind of transport is _______________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312408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ransport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4876920"/>
            <a:ext cx="27432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: What is a </a:t>
            </a:r>
            <a:br>
              <a:rPr sz="36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ocytos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05320" y="1676520"/>
            <a:ext cx="5333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olgi bodies pinch off membrane bound sacs called vesicles when they transport the molecules they package out of cells. This type of transport is called ______________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29908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al Life Lab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previousslide"/>
          </p:cNvPr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09480" y="57150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lasmolysi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" y="1828800"/>
            <a:ext cx="944892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You are shopping in the grocery store and see their veggies have wilted from loss of water. This is an example of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ytolysis      plasmolysis     diffusion       endocytosi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93680" y="2422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al Life Lab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472428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ypertoni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62120" y="1981080"/>
            <a:ext cx="76197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n lab you placed your egg in sugar water. The sugar water was a ____________ solu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al Life Lab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4876920"/>
            <a:ext cx="75438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odin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 </a:t>
            </a:r>
            <a:br>
              <a:rPr sz="40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odine + starch  produces a blue-black color 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38080" y="2590920"/>
            <a:ext cx="7620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2438280"/>
            <a:ext cx="8534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the semi-permeable membrane lab, the inside of your membrane bag turned black because _________ entered the bag and reacted with the starch insid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51460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al Life Lab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066680" y="510552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glucose, water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odin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2120" y="2438280"/>
            <a:ext cx="7772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me one of the molecules that was able to pass through the semi-permeable membrane in your lab experime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943600" y="304920"/>
            <a:ext cx="289548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al Life Lab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2120" y="434340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t was too large to fit through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38080" y="220968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starch was unable to cross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rough the membrane in your lab experiment because ________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26416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assive Transport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previousslide"/>
          </p:cNvPr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2133720"/>
            <a:ext cx="80769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Name one of the kinds of passive transport you learned abou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434340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: What is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Diffusion or Facilitated Diffusion (osmosis, carrier proteins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Ion Channels)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assive Transport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51055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RU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2057400"/>
            <a:ext cx="8839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rue        or         False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assive transport does NOT REQUIRE any energ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assive Transport 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5181480"/>
            <a:ext cx="75438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ALSE? </a:t>
            </a:r>
            <a:br>
              <a:rPr sz="36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y move from higher to l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1981080"/>
            <a:ext cx="8839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RUE   OR   FALSE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 passive transport,  molecules always move from a region of lower concentration to a region of higher concentration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assive Transport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51055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equilibriu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2057400"/>
            <a:ext cx="762012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iffusion continues until the concentration of molecules is equal throughout the space. This is call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________________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assive Transport 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657600"/>
            <a:ext cx="9144000" cy="31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: What is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usion - oxygen &amp; C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smosis (facilitated diff. w/ aquaporins) - water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acilitated diffusion w/ carriers - glucose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acilitated diffusion w/ion channels- Ca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imes New Roman"/>
              </a:rPr>
              <a:t>++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, Cl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, Na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, K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1905120"/>
            <a:ext cx="883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ame a molecule that moves by a kind of passive transport across membranes in cells and tell which kind of transport it us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Active Transport 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previousslide"/>
          </p:cNvPr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4343400"/>
            <a:ext cx="807732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Endocytosis, Exocytosis, Na</a:t>
            </a:r>
            <a:r>
              <a:rPr b="0" lang="en-US" sz="4100" spc="-1" strike="noStrike" baseline="30000">
                <a:solidFill>
                  <a:srgbClr val="ffff00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-K</a:t>
            </a:r>
            <a:r>
              <a:rPr b="0" lang="en-US" sz="4100" spc="-1" strike="noStrike" baseline="30000">
                <a:solidFill>
                  <a:srgbClr val="ffff00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pump, proton pump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2514600"/>
            <a:ext cx="7924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ame one of the kinds of Active transport you learned abou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Active Transport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51055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hagocytosis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2209680"/>
            <a:ext cx="7619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type of endocytosis in which large molecules or whole cells are taken into a cell is called _________________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6T17:56:44Z</dcterms:created>
  <dc:creator>Ken Martin</dc:creator>
  <dc:description/>
  <dc:language>en-US</dc:language>
  <cp:lastModifiedBy>Becca Riedell</cp:lastModifiedBy>
  <dcterms:modified xsi:type="dcterms:W3CDTF">2008-08-11T19:43:50Z</dcterms:modified>
  <cp:revision>84</cp:revision>
  <dc:subject/>
  <dc:title>Semester 2</dc:title>
</cp:coreProperties>
</file>